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858-0DD9-40B5-A7CA-4E69B8AF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E45-B346-4E3E-9A6B-493A234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EB7-B88A-4A3E-BB72-84726ABF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C8E-56E2-444E-9527-4E044C51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646-23A0-46A0-BF5A-089B1AD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0FE-DAF0-4AE5-9202-B7BEBE6A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B91-AD9E-47C4-A9D1-6224CD80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CDF-1A07-42E1-BEAE-8F2E5D2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790-EC7C-4907-B2DC-4CE0EB3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FF6-2A0A-49DE-AE12-51201A6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77E-2F86-4643-91C2-BB00CC5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D45-2A67-4488-A911-0D52CE6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34B-B585-4324-93FC-51A64B3B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04360" y="5294160"/>
            <a:ext cx="3405240" cy="1443960"/>
          </a:xfrm>
          <a:prstGeom prst="rect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21547800">
            <a:off x="2050200" y="549000"/>
            <a:ext cx="5473800" cy="4921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6210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2852640"/>
            <a:ext cx="2808000" cy="863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79000">
            <a:off x="539640" y="1844280"/>
            <a:ext cx="2340000" cy="1224000"/>
          </a:xfrm>
          <a:prstGeom prst="rightArrow">
            <a:avLst>
              <a:gd name="adj1" fmla="val 50000"/>
              <a:gd name="adj2" fmla="val 47794"/>
            </a:avLst>
          </a:prstGeom>
          <a:solidFill>
            <a:srgbClr val="00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ZZI 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609400">
            <a:off x="323640" y="3860280"/>
            <a:ext cx="2752560" cy="1359000"/>
          </a:xfrm>
          <a:prstGeom prst="rightArrow">
            <a:avLst>
              <a:gd name="adj1" fmla="val 50000"/>
              <a:gd name="adj2" fmla="val 50636"/>
            </a:avLst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ZZI  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219640" y="134100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2420640"/>
            <a:ext cx="1225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364500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4221000"/>
            <a:ext cx="57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5877000"/>
            <a:ext cx="1081080" cy="981000"/>
          </a:xfrm>
          <a:prstGeom prst="rect">
            <a:avLst/>
          </a:prstGeom>
          <a:solidFill>
            <a:srgbClr val="ff33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189000"/>
            <a:ext cx="1763640" cy="1079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0" y="1916280"/>
            <a:ext cx="2016000" cy="1008000"/>
          </a:xfrm>
          <a:prstGeom prst="rect">
            <a:avLst/>
          </a:prstGeom>
          <a:solidFill>
            <a:srgbClr val="ff33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‘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4941720"/>
            <a:ext cx="219708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884720" y="29242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3645000"/>
            <a:ext cx="1834920" cy="792000"/>
          </a:xfrm>
          <a:prstGeom prst="rect">
            <a:avLst/>
          </a:prstGeom>
          <a:solidFill>
            <a:srgbClr val="66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0Z</dcterms:created>
  <dc:creator>informatica20</dc:creator>
  <dc:description/>
  <dc:language>en-US</dc:language>
  <cp:lastModifiedBy>informatica20</cp:lastModifiedBy>
  <dcterms:modified xsi:type="dcterms:W3CDTF">2017-01-09T10:00:28Z</dcterms:modified>
  <cp:revision>9</cp:revision>
  <dc:subject/>
  <dc:title>Diapositiva 1</dc:title>
</cp:coreProperties>
</file>